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95BE-BC04-48DB-976C-789831208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9C70-9CB4-49F8-9576-6FB25AE39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D10E-9CE0-4F1C-A98F-30E8B58AC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530F-A373-4245-8C36-5FB9FA6A0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E9F-876D-41FA-AFD5-908BE0715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C859-A096-4DC6-8548-8A17801C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2011-6FFC-4347-8412-20C1396A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979C-A9DC-492B-90CC-5A45A3DF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201C-B3C5-4EC3-BF34-F20E80D7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9C86-8D33-473F-801A-621911FC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F474-4146-4BA8-B144-11BDFFD8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A0C-05F4-4F96-9D35-B1489154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AC90-5818-4E70-8048-D4445595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D001-2DB3-432F-9B0B-873FB351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437-AB6D-413F-831A-71D8ED5E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543-4F8F-43BF-8328-EAD2DD34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D3B3-E346-420C-9817-A9E711AD4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Text Box 9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066680" y="1296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easuring and Constructing 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le 1"/>
          <p:cNvSpPr/>
          <p:nvPr/>
        </p:nvSpPr>
        <p:spPr>
          <a:xfrm>
            <a:off x="457200" y="762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ards,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kers,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9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2317680" cy="167616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26"/>
          <p:cNvGrpSpPr/>
          <p:nvPr/>
        </p:nvGrpSpPr>
        <p:grpSpPr>
          <a:xfrm>
            <a:off x="3580920" y="5105520"/>
            <a:ext cx="2362680" cy="1371600"/>
            <a:chOff x="3580920" y="5105520"/>
            <a:chExt cx="2362680" cy="1371600"/>
          </a:xfrm>
        </p:grpSpPr>
        <p:pic>
          <p:nvPicPr>
            <p:cNvPr id="56" name="Picture 23" descr=""/>
            <p:cNvPicPr/>
            <p:nvPr/>
          </p:nvPicPr>
          <p:blipFill>
            <a:blip r:embed="rId2"/>
            <a:stretch/>
          </p:blipFill>
          <p:spPr>
            <a:xfrm>
              <a:off x="3581280" y="5105520"/>
              <a:ext cx="2325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Line 24"/>
            <p:cNvSpPr/>
            <p:nvPr/>
          </p:nvSpPr>
          <p:spPr>
            <a:xfrm>
              <a:off x="4741920" y="6301440"/>
              <a:ext cx="12016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5"/>
            <p:cNvSpPr/>
            <p:nvPr/>
          </p:nvSpPr>
          <p:spPr>
            <a:xfrm flipH="1" flipV="1">
              <a:off x="3580920" y="5965200"/>
              <a:ext cx="1181160" cy="335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11" descr=""/>
          <p:cNvPicPr/>
          <p:nvPr/>
        </p:nvPicPr>
        <p:blipFill>
          <a:blip r:embed="rId3"/>
          <a:stretch/>
        </p:blipFill>
        <p:spPr>
          <a:xfrm>
            <a:off x="0" y="5105520"/>
            <a:ext cx="2166840" cy="1371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838080" y="167652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Wipe Boards, answer individually.  Let teacher know that you are done with a “thumbs up” signal.  Teacher will call to see your answer then show the answer for each problem on scr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DSC03288.JPG"/>
          <p:cNvPicPr/>
          <p:nvPr/>
        </p:nvPicPr>
        <p:blipFill>
          <a:blip r:embed="rId4"/>
          <a:stretch/>
        </p:blipFill>
        <p:spPr>
          <a:xfrm>
            <a:off x="4572000" y="18288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80880" y="15228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assify each angle as acute, right, or obt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9" descr=""/>
          <p:cNvPicPr/>
          <p:nvPr/>
        </p:nvPicPr>
        <p:blipFill>
          <a:blip r:embed="rId1"/>
          <a:stretch/>
        </p:blipFill>
        <p:spPr>
          <a:xfrm>
            <a:off x="5257800" y="2514600"/>
            <a:ext cx="2952720" cy="2135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0"/>
          <p:cNvSpPr/>
          <p:nvPr/>
        </p:nvSpPr>
        <p:spPr>
          <a:xfrm>
            <a:off x="591840" y="2286000"/>
            <a:ext cx="13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567000" y="3227400"/>
            <a:ext cx="157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457200" y="4724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in the interior of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M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m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MK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2°, and m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M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°. Find m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M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3"/>
          <p:cNvSpPr/>
          <p:nvPr/>
        </p:nvSpPr>
        <p:spPr>
          <a:xfrm>
            <a:off x="958680" y="571500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64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4"/>
          <p:cNvSpPr/>
          <p:nvPr/>
        </p:nvSpPr>
        <p:spPr>
          <a:xfrm>
            <a:off x="2469600" y="2313000"/>
            <a:ext cx="10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5"/>
          <p:cNvSpPr/>
          <p:nvPr/>
        </p:nvSpPr>
        <p:spPr>
          <a:xfrm>
            <a:off x="2532960" y="3171960"/>
            <a:ext cx="9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1105200" y="281952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2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609480" y="35211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a protractor to draw an angle with a measure of 165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27"/>
          <p:cNvGrpSpPr/>
          <p:nvPr/>
        </p:nvGrpSpPr>
        <p:grpSpPr>
          <a:xfrm>
            <a:off x="609480" y="1600200"/>
            <a:ext cx="7772400" cy="1194120"/>
            <a:chOff x="609480" y="1600200"/>
            <a:chExt cx="7772400" cy="1194120"/>
          </a:xfrm>
        </p:grpSpPr>
        <p:sp>
          <p:nvSpPr>
            <p:cNvPr id="75" name="Rectangle 18"/>
            <p:cNvSpPr/>
            <p:nvPr/>
          </p:nvSpPr>
          <p:spPr>
            <a:xfrm>
              <a:off x="609480" y="1676520"/>
              <a:ext cx="77724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65120" indent="-46512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4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BD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bisects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BC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BD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               ,  and 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DBC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4)°. Find 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BC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19" descr="1"/>
            <p:cNvPicPr/>
            <p:nvPr/>
          </p:nvPicPr>
          <p:blipFill>
            <a:blip r:embed="rId1"/>
            <a:stretch/>
          </p:blipFill>
          <p:spPr>
            <a:xfrm>
              <a:off x="5486400" y="1600200"/>
              <a:ext cx="160956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Line 21"/>
            <p:cNvSpPr/>
            <p:nvPr/>
          </p:nvSpPr>
          <p:spPr>
            <a:xfrm>
              <a:off x="1143000" y="1871640"/>
              <a:ext cx="514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26"/>
          <p:cNvGrpSpPr/>
          <p:nvPr/>
        </p:nvGrpSpPr>
        <p:grpSpPr>
          <a:xfrm>
            <a:off x="2438280" y="4419720"/>
            <a:ext cx="3657600" cy="2009520"/>
            <a:chOff x="2438280" y="4419720"/>
            <a:chExt cx="3657600" cy="2009520"/>
          </a:xfrm>
        </p:grpSpPr>
        <p:pic>
          <p:nvPicPr>
            <p:cNvPr id="79" name="Picture 23" descr=""/>
            <p:cNvPicPr/>
            <p:nvPr/>
          </p:nvPicPr>
          <p:blipFill>
            <a:blip r:embed="rId2"/>
            <a:stretch/>
          </p:blipFill>
          <p:spPr>
            <a:xfrm>
              <a:off x="2438280" y="4419720"/>
              <a:ext cx="3600720" cy="20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Line 24"/>
            <p:cNvSpPr/>
            <p:nvPr/>
          </p:nvSpPr>
          <p:spPr>
            <a:xfrm>
              <a:off x="4235400" y="6172200"/>
              <a:ext cx="1860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5"/>
            <p:cNvSpPr/>
            <p:nvPr/>
          </p:nvSpPr>
          <p:spPr>
            <a:xfrm flipH="1" flipV="1">
              <a:off x="2438280" y="5679720"/>
              <a:ext cx="1828800" cy="492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228600" y="17524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WYZ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5)° and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YW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10)°.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928040" y="37069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3400560" cy="215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teacher</cp:lastModifiedBy>
  <dcterms:modified xsi:type="dcterms:W3CDTF">2009-06-29T04:00:55Z</dcterms:modified>
  <cp:revision>44</cp:revision>
  <dc:subject/>
  <dc:title>Slide 1</dc:title>
</cp:coreProperties>
</file>